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BC1255-1CB7-4421-9012-A323318829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F18D17-11F0-45D6-9BAE-80E6A71E0D7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EB7929-C12B-4A77-9CA7-0D815475873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1BAE57-C345-4AF1-9C52-C93413979B3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C1C81D-4979-40E1-8E0E-164754659D1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905E6E-5F2A-4385-99FC-8B97FD8D2FB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469204-14A7-4A1C-9012-FA17D0FD24B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5FE41B-9E5A-45AE-AD97-1BC7D2D5CEA9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77ACC0-FD03-43EF-9A8C-46D6A49E9FB5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2B6C47-8268-4A58-BE0F-B81F4833B2D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30B3B6-EF44-4644-B076-F42303C3312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9D7062-3611-4C97-9801-B77973675F2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2A8B7C-3487-40D9-B0FD-1C7642BFBEA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FA4F-DDDC-4350-8DE4-76474612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DBB-EE0D-4266-823A-AAEC928A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9846-FF40-47A5-91F1-1DA8E71D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53AD-77B6-4F41-A55B-D41D94E8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2B42-48F4-44D0-B5C2-4D11F41C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452D-0622-4858-9B7F-6DF88C03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B2F5-857A-4608-AE7A-E7435316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05ED-CFE6-49EB-AE29-6CEE084D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46EA-0EFA-4567-A856-5A5DB154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9120-F4B8-41BE-9098-B3139E33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9873-14CB-43F6-92F5-3B104FE1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B1F-CE7E-4A3D-8087-5ECB6BC5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48FC-0D6D-4142-86EF-E32552F7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E57D-ACC2-43AB-9152-CCC303AB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9BD6-34FF-4047-B21F-92590F64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AA9E-D92F-48BD-9B56-D4289432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47CE-FAE9-46BA-B65F-CAF8037E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D32-6FF9-4815-8D3D-61B45AA8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84F-8AAF-44A0-8EB9-FA912C90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EECF-F010-48C6-9A2D-3B165DAE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D2B-BB1D-468C-A86F-A8E4D1C3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CAA-7B18-46A8-8F8C-DC2F4F34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11EB-290F-450C-91DC-9F334197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A00-7E92-46A9-AEC9-7C7DE5E3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75A6-630E-4261-B355-A3620814E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968B-A3DE-486B-AC4B-6023693028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ocument Pars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emm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terms to their “roots” before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temming” suggest crude affix chopp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 depend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utomate(s), automatic, automatio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ll reduced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automa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777960" y="167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708120" y="4772520"/>
            <a:ext cx="3431520" cy="131364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example compress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compression are bot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pted as equivalent to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000760" y="4572000"/>
            <a:ext cx="3609720" cy="1676520"/>
          </a:xfrm>
          <a:prstGeom prst="rect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exampl compress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ress ar both accep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equival to compre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4572000" y="5181480"/>
            <a:ext cx="30492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Rounded Rectangle 9"/>
          <p:cNvSpPr/>
          <p:nvPr/>
        </p:nvSpPr>
        <p:spPr>
          <a:xfrm>
            <a:off x="5796000" y="189000"/>
            <a:ext cx="2879640" cy="7920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  <a:ea typeface="Arial"/>
              </a:rPr>
              <a:t>Porter’s algorith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7" name="Picture 8" descr="Screen Shot 2012-09-25 at 11.04.41 AM.pn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267600"/>
          </a:xfrm>
          <a:prstGeom prst="rect">
            <a:avLst/>
          </a:prstGeom>
          <a:ln w="0">
            <a:noFill/>
          </a:ln>
        </p:spPr>
      </p:pic>
      <p:sp>
        <p:nvSpPr>
          <p:cNvPr id="178" name="Rettangolo arrotondato 10"/>
          <p:cNvSpPr/>
          <p:nvPr/>
        </p:nvSpPr>
        <p:spPr>
          <a:xfrm>
            <a:off x="1403280" y="1916280"/>
            <a:ext cx="6769080" cy="1225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emmat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inflectional/variant forms to base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,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am, are,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, cars, car'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s'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Lemmatization implies doing “proper” reduction to dictionary headword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81" name="Picture 3" descr="Screen Shot 2012-09-25 at 11.06.10 AM.png"/>
          <p:cNvPicPr/>
          <p:nvPr/>
        </p:nvPicPr>
        <p:blipFill>
          <a:blip r:embed="rId1"/>
          <a:stretch/>
        </p:blipFill>
        <p:spPr>
          <a:xfrm>
            <a:off x="34920" y="-33480"/>
            <a:ext cx="9144000" cy="6662880"/>
          </a:xfrm>
          <a:prstGeom prst="rect">
            <a:avLst/>
          </a:prstGeom>
          <a:ln w="0">
            <a:noFill/>
          </a:ln>
        </p:spPr>
      </p:pic>
      <p:sp>
        <p:nvSpPr>
          <p:cNvPr id="182" name="Freccia in su 1"/>
          <p:cNvSpPr/>
          <p:nvPr/>
        </p:nvSpPr>
        <p:spPr>
          <a:xfrm>
            <a:off x="2627280" y="476280"/>
            <a:ext cx="792360" cy="895320"/>
          </a:xfrm>
          <a:prstGeom prst="up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anguage-specific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Many of the above features embody transformations that ar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nguage-specific an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ften, application-specifi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se are “plug-in” addenda to index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oth open source and commercial plug-ins are available for handling the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2.2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Statistical properties of text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atistical properties of text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okens are not distributed uniformly. They follow the so called  “</a:t>
            </a:r>
            <a:r>
              <a:rPr b="0" lang="en-US" sz="2600" spc="-1" strike="noStrike">
                <a:solidFill>
                  <a:srgbClr val="ff3300"/>
                </a:solidFill>
                <a:latin typeface="Lucida Sans"/>
              </a:rPr>
              <a:t>Zipf Law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ew tokens are very frequ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middle sized set has medium frequenc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ny are ra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first 100 tokens sum up to 50% of the text, and many of them ar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stopword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short-zipf"/>
          <p:cNvPicPr/>
          <p:nvPr/>
        </p:nvPicPr>
        <p:blipFill>
          <a:blip r:embed="rId1"/>
          <a:stretch/>
        </p:blipFill>
        <p:spPr>
          <a:xfrm>
            <a:off x="826920" y="1682640"/>
            <a:ext cx="7824960" cy="51753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890280" y="692280"/>
            <a:ext cx="58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  <a:ea typeface="Arial"/>
              </a:rPr>
              <a:t>An example of “Zipf curve”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log-log plot for a Zipf’s curv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93" name="Picture 3" descr="ZipfsLaw"/>
          <p:cNvPicPr/>
          <p:nvPr/>
        </p:nvPicPr>
        <p:blipFill>
          <a:blip r:embed="rId1"/>
          <a:stretch/>
        </p:blipFill>
        <p:spPr>
          <a:xfrm>
            <a:off x="1600200" y="1676520"/>
            <a:ext cx="639936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4000" y="1692000"/>
            <a:ext cx="81356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-th most frequent token has frequency f(k) approximately 1/k;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quivalently, the product of the frequency f(k) of a token and its rank k is a consta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74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Lucida Sans"/>
              </a:rPr>
              <a:t>Scale invariant: f(b*k) = b</a:t>
            </a:r>
            <a:r>
              <a:rPr b="0" lang="it-IT" sz="3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31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100" spc="-1" strike="noStrike">
                <a:solidFill>
                  <a:srgbClr val="000000"/>
                </a:solidFill>
                <a:latin typeface="Lucida Sans"/>
              </a:rPr>
              <a:t> * f(k)</a:t>
            </a:r>
            <a:endParaRPr b="0" lang="en-US" sz="3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Zipf Law, in detai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6" name="Group 4"/>
          <p:cNvGrpSpPr/>
          <p:nvPr/>
        </p:nvGrpSpPr>
        <p:grpSpPr>
          <a:xfrm>
            <a:off x="4861080" y="4005360"/>
            <a:ext cx="2071440" cy="1447560"/>
            <a:chOff x="4861080" y="4005360"/>
            <a:chExt cx="2071440" cy="1447560"/>
          </a:xfrm>
        </p:grpSpPr>
        <p:sp>
          <p:nvSpPr>
            <p:cNvPr id="197" name="Rectangle 5"/>
            <p:cNvSpPr/>
            <p:nvPr/>
          </p:nvSpPr>
          <p:spPr>
            <a:xfrm>
              <a:off x="4861080" y="4005360"/>
              <a:ext cx="2057040" cy="1447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k) = c / 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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Text Box 6"/>
            <p:cNvSpPr/>
            <p:nvPr/>
          </p:nvSpPr>
          <p:spPr>
            <a:xfrm>
              <a:off x="6623640" y="4149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99" name="Rectangle 7"/>
          <p:cNvSpPr/>
          <p:nvPr/>
        </p:nvSpPr>
        <p:spPr>
          <a:xfrm>
            <a:off x="1692360" y="3933720"/>
            <a:ext cx="2057400" cy="1447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k * f(k) = 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f(k) = c  / 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079960" y="5445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Arial"/>
              </a:rPr>
              <a:t>General La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istribution </a:t>
            </a:r>
            <a:r>
              <a:rPr b="0" i="1" lang="it-IT" sz="4000" spc="-1" strike="noStrike">
                <a:solidFill>
                  <a:srgbClr val="000000"/>
                </a:solidFill>
                <a:latin typeface="Lucida Sans"/>
              </a:rPr>
              <a:t>vs 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umulative dist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02" name="Picture 3" descr="C:\Documents and Settings\ferragin\Desktop\325px-Zipf_distribution_PMF.png"/>
          <p:cNvPicPr/>
          <p:nvPr/>
        </p:nvPicPr>
        <p:blipFill>
          <a:blip r:embed="rId1"/>
          <a:stretch/>
        </p:blipFill>
        <p:spPr>
          <a:xfrm>
            <a:off x="142920" y="1714680"/>
            <a:ext cx="4143240" cy="3109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C:\Documents and Settings\ferragin\Desktop\325px-Zipf_distribution_CMF.png"/>
          <p:cNvPicPr/>
          <p:nvPr/>
        </p:nvPicPr>
        <p:blipFill>
          <a:blip r:embed="rId2"/>
          <a:stretch/>
        </p:blipFill>
        <p:spPr>
          <a:xfrm>
            <a:off x="4857840" y="1714680"/>
            <a:ext cx="4143240" cy="31114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9"/>
          <p:cNvGrpSpPr/>
          <p:nvPr/>
        </p:nvGrpSpPr>
        <p:grpSpPr>
          <a:xfrm>
            <a:off x="520560" y="5373720"/>
            <a:ext cx="8172360" cy="1527120"/>
            <a:chOff x="520560" y="5373720"/>
            <a:chExt cx="8172360" cy="1527120"/>
          </a:xfrm>
        </p:grpSpPr>
        <p:sp>
          <p:nvSpPr>
            <p:cNvPr id="205" name="AutoShape 10"/>
            <p:cNvSpPr/>
            <p:nvPr/>
          </p:nvSpPr>
          <p:spPr>
            <a:xfrm>
              <a:off x="520560" y="5373720"/>
              <a:ext cx="8172360" cy="1198440"/>
            </a:xfrm>
            <a:prstGeom prst="roundRect">
              <a:avLst>
                <a:gd name="adj" fmla="val 16667"/>
              </a:avLst>
            </a:prstGeom>
            <a:noFill/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6" name="Text Box 11"/>
            <p:cNvSpPr/>
            <p:nvPr/>
          </p:nvSpPr>
          <p:spPr>
            <a:xfrm>
              <a:off x="865440" y="5527080"/>
              <a:ext cx="7428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Sum after the k-th element is ≤ f(k) * k/(s-1)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Sum up to the k-th element is ≥ f(k) * k</a:t>
              </a: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07" name="Text Box 12"/>
          <p:cNvSpPr/>
          <p:nvPr/>
        </p:nvSpPr>
        <p:spPr>
          <a:xfrm>
            <a:off x="4773240" y="4786200"/>
            <a:ext cx="41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Power-law with smaller exponen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79440" y="482904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Log-log plo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ther statistical properties of tex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e number of distinct tokens grows a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so called  “</a:t>
            </a:r>
            <a:r>
              <a:rPr b="0" lang="en-US" sz="2000" spc="-1" strike="noStrike">
                <a:solidFill>
                  <a:srgbClr val="ff3300"/>
                </a:solidFill>
                <a:latin typeface="Lucida Sans"/>
              </a:rPr>
              <a:t>Heaps Law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”  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&lt;1, tipically 0.5, where n is the total number of token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The average token length grows as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(log n)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nteresting words are the ones with medium frequency (</a:t>
            </a:r>
            <a:r>
              <a:rPr b="0" lang="en-US" sz="2600" spc="-1" strike="noStrike">
                <a:solidFill>
                  <a:srgbClr val="ff3300"/>
                </a:solidFill>
                <a:latin typeface="Lucida Sans"/>
              </a:rPr>
              <a:t>Luh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11" name="Picture 4" descr="zipf-resolving"/>
          <p:cNvPicPr/>
          <p:nvPr/>
        </p:nvPicPr>
        <p:blipFill>
          <a:blip r:embed="rId1"/>
          <a:srcRect l="0" t="0" r="0" b="17230"/>
          <a:stretch/>
        </p:blipFill>
        <p:spPr>
          <a:xfrm>
            <a:off x="5145120" y="4649760"/>
            <a:ext cx="38908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66"/>
          <p:cNvGrpSpPr/>
          <p:nvPr/>
        </p:nvGrpSpPr>
        <p:grpSpPr>
          <a:xfrm>
            <a:off x="704160" y="2777040"/>
            <a:ext cx="8197200" cy="1109160"/>
            <a:chOff x="704160" y="2777040"/>
            <a:chExt cx="8197200" cy="1109160"/>
          </a:xfrm>
        </p:grpSpPr>
        <p:sp>
          <p:nvSpPr>
            <p:cNvPr id="93" name="AutoShape 13"/>
            <p:cNvSpPr/>
            <p:nvPr/>
          </p:nvSpPr>
          <p:spPr>
            <a:xfrm>
              <a:off x="3351240" y="2777040"/>
              <a:ext cx="145224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Tokeniz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4" name="AutoShape 17"/>
            <p:cNvSpPr/>
            <p:nvPr/>
          </p:nvSpPr>
          <p:spPr>
            <a:xfrm>
              <a:off x="3962520" y="3276720"/>
              <a:ext cx="304560" cy="609480"/>
            </a:xfrm>
            <a:prstGeom prst="downArrow">
              <a:avLst>
                <a:gd name="adj1" fmla="val 50000"/>
                <a:gd name="adj2" fmla="val 500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" name="Text Box 20"/>
            <p:cNvSpPr/>
            <p:nvPr/>
          </p:nvSpPr>
          <p:spPr>
            <a:xfrm>
              <a:off x="704160" y="3363840"/>
              <a:ext cx="188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Token stream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" name="Rectangle 26"/>
            <p:cNvSpPr/>
            <p:nvPr/>
          </p:nvSpPr>
          <p:spPr>
            <a:xfrm>
              <a:off x="4857840" y="3367440"/>
              <a:ext cx="945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riend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" name="Rectangle 27"/>
            <p:cNvSpPr/>
            <p:nvPr/>
          </p:nvSpPr>
          <p:spPr>
            <a:xfrm>
              <a:off x="6058800" y="3377160"/>
              <a:ext cx="10159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oman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8" name="Rectangle 28"/>
            <p:cNvSpPr/>
            <p:nvPr/>
          </p:nvSpPr>
          <p:spPr>
            <a:xfrm>
              <a:off x="7445160" y="3377160"/>
              <a:ext cx="1456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untryme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nverted index construc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0" name="Group 70"/>
          <p:cNvGrpSpPr/>
          <p:nvPr/>
        </p:nvGrpSpPr>
        <p:grpSpPr>
          <a:xfrm>
            <a:off x="798120" y="4031280"/>
            <a:ext cx="8112240" cy="1150200"/>
            <a:chOff x="798120" y="4031280"/>
            <a:chExt cx="8112240" cy="1150200"/>
          </a:xfrm>
        </p:grpSpPr>
        <p:sp>
          <p:nvSpPr>
            <p:cNvPr id="101" name="AutoShape 14"/>
            <p:cNvSpPr/>
            <p:nvPr/>
          </p:nvSpPr>
          <p:spPr>
            <a:xfrm>
              <a:off x="2666880" y="4031280"/>
              <a:ext cx="289584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Linguistic module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2" name="AutoShape 18"/>
            <p:cNvSpPr/>
            <p:nvPr/>
          </p:nvSpPr>
          <p:spPr>
            <a:xfrm>
              <a:off x="3962520" y="4648320"/>
              <a:ext cx="304560" cy="533160"/>
            </a:xfrm>
            <a:prstGeom prst="downArrow">
              <a:avLst>
                <a:gd name="adj1" fmla="val 50000"/>
                <a:gd name="adj2" fmla="val 43765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3" name="Text Box 21"/>
            <p:cNvSpPr/>
            <p:nvPr/>
          </p:nvSpPr>
          <p:spPr>
            <a:xfrm>
              <a:off x="798120" y="4659480"/>
              <a:ext cx="21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Modified tokens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4973760" y="4586760"/>
              <a:ext cx="790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riend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6187320" y="4596480"/>
              <a:ext cx="8330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om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7510320" y="4596480"/>
              <a:ext cx="14000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untrym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07" name="Group 72"/>
          <p:cNvGrpSpPr/>
          <p:nvPr/>
        </p:nvGrpSpPr>
        <p:grpSpPr>
          <a:xfrm>
            <a:off x="787680" y="5172120"/>
            <a:ext cx="8302320" cy="1541880"/>
            <a:chOff x="787680" y="5172120"/>
            <a:chExt cx="8302320" cy="1541880"/>
          </a:xfrm>
        </p:grpSpPr>
        <p:sp>
          <p:nvSpPr>
            <p:cNvPr id="108" name="AutoShape 15"/>
            <p:cNvSpPr/>
            <p:nvPr/>
          </p:nvSpPr>
          <p:spPr>
            <a:xfrm>
              <a:off x="3497760" y="5205960"/>
              <a:ext cx="1195920" cy="43056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Index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AutoShape 22"/>
            <p:cNvSpPr/>
            <p:nvPr/>
          </p:nvSpPr>
          <p:spPr>
            <a:xfrm>
              <a:off x="3962520" y="5705640"/>
              <a:ext cx="304560" cy="457200"/>
            </a:xfrm>
            <a:prstGeom prst="downArrow">
              <a:avLst>
                <a:gd name="adj1" fmla="val 50000"/>
                <a:gd name="adj2" fmla="val 375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" name="Text Box 23"/>
            <p:cNvSpPr/>
            <p:nvPr/>
          </p:nvSpPr>
          <p:spPr>
            <a:xfrm>
              <a:off x="787680" y="5918040"/>
              <a:ext cx="198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Inverted index.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11" name="Group 71"/>
            <p:cNvGrpSpPr/>
            <p:nvPr/>
          </p:nvGrpSpPr>
          <p:grpSpPr>
            <a:xfrm>
              <a:off x="4861800" y="5172120"/>
              <a:ext cx="4228200" cy="1541880"/>
              <a:chOff x="4861800" y="5172120"/>
              <a:chExt cx="4228200" cy="1541880"/>
            </a:xfrm>
          </p:grpSpPr>
          <p:grpSp>
            <p:nvGrpSpPr>
              <p:cNvPr id="112" name="Group 32"/>
              <p:cNvGrpSpPr/>
              <p:nvPr/>
            </p:nvGrpSpPr>
            <p:grpSpPr>
              <a:xfrm>
                <a:off x="4861800" y="5248440"/>
                <a:ext cx="2758320" cy="1465560"/>
                <a:chOff x="4861800" y="5248440"/>
                <a:chExt cx="2758320" cy="1465560"/>
              </a:xfrm>
            </p:grpSpPr>
            <p:sp>
              <p:nvSpPr>
                <p:cNvPr id="113" name="Text Box 33"/>
                <p:cNvSpPr/>
                <p:nvPr/>
              </p:nvSpPr>
              <p:spPr>
                <a:xfrm>
                  <a:off x="4861800" y="5248440"/>
                  <a:ext cx="90468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friend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14" name="Text Box 34"/>
                <p:cNvSpPr/>
                <p:nvPr/>
              </p:nvSpPr>
              <p:spPr>
                <a:xfrm>
                  <a:off x="4865760" y="5781600"/>
                  <a:ext cx="97164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roman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15" name="Text Box 35"/>
                <p:cNvSpPr/>
                <p:nvPr/>
              </p:nvSpPr>
              <p:spPr>
                <a:xfrm>
                  <a:off x="4881240" y="6315120"/>
                  <a:ext cx="1639080" cy="3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Sans"/>
                      <a:ea typeface="Arial Unicode MS"/>
                    </a:rPr>
                    <a:t>countryman</a:t>
                  </a:r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16" name="AutoShape 36"/>
                <p:cNvSpPr/>
                <p:nvPr/>
              </p:nvSpPr>
              <p:spPr>
                <a:xfrm>
                  <a:off x="6477120" y="532440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17" name="AutoShape 37"/>
                <p:cNvSpPr/>
                <p:nvPr/>
              </p:nvSpPr>
              <p:spPr>
                <a:xfrm>
                  <a:off x="6477120" y="585792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  <p:sp>
              <p:nvSpPr>
                <p:cNvPr id="118" name="AutoShape 38"/>
                <p:cNvSpPr/>
                <p:nvPr/>
              </p:nvSpPr>
              <p:spPr>
                <a:xfrm>
                  <a:off x="6477120" y="6391080"/>
                  <a:ext cx="1143000" cy="228240"/>
                </a:xfrm>
                <a:custGeom>
                  <a:avLst/>
                  <a:gdLst>
                    <a:gd name="textAreaLeft" fmla="*/ 177840 w 1143000"/>
                    <a:gd name="textAreaRight" fmla="*/ 1000440 w 1143000"/>
                    <a:gd name="textAreaTop" fmla="*/ 56880 h 228240"/>
                    <a:gd name="textAreaBottom" fmla="*/ 17136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lnTo>
                        <a:pt x="16200" y="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lnTo>
                        <a:pt x="135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lnTo>
                        <a:pt x="0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  <p:sp>
            <p:nvSpPr>
              <p:cNvPr id="119" name="Text Box 39"/>
              <p:cNvSpPr/>
              <p:nvPr/>
            </p:nvSpPr>
            <p:spPr>
              <a:xfrm>
                <a:off x="7781040" y="51721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0" name="Text Box 40"/>
              <p:cNvSpPr/>
              <p:nvPr/>
            </p:nvSpPr>
            <p:spPr>
              <a:xfrm>
                <a:off x="8428680" y="517212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1" name="Text Box 41"/>
              <p:cNvSpPr/>
              <p:nvPr/>
            </p:nvSpPr>
            <p:spPr>
              <a:xfrm>
                <a:off x="8449560" y="57056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2" name="Text Box 42"/>
              <p:cNvSpPr/>
              <p:nvPr/>
            </p:nvSpPr>
            <p:spPr>
              <a:xfrm>
                <a:off x="7696080" y="6248520"/>
                <a:ext cx="6098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3" name="Text Box 43"/>
              <p:cNvSpPr/>
              <p:nvPr/>
            </p:nvSpPr>
            <p:spPr>
              <a:xfrm>
                <a:off x="8586720" y="6238800"/>
                <a:ext cx="473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24" name="AutoShape 44"/>
              <p:cNvCxnSpPr>
                <a:stCxn id="119" idx="3"/>
                <a:endCxn id="120" idx="1"/>
              </p:cNvCxnSpPr>
              <p:nvPr/>
            </p:nvCxnSpPr>
            <p:spPr>
              <a:xfrm>
                <a:off x="8115120" y="540504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5" name="AutoShape 45"/>
              <p:cNvCxnSpPr>
                <a:stCxn id="120" idx="3"/>
              </p:cNvCxnSpPr>
              <p:nvPr/>
            </p:nvCxnSpPr>
            <p:spPr>
              <a:xfrm>
                <a:off x="8784720" y="5405040"/>
                <a:ext cx="305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6" name="Text Box 46"/>
              <p:cNvSpPr/>
              <p:nvPr/>
            </p:nvSpPr>
            <p:spPr>
              <a:xfrm>
                <a:off x="7801920" y="5705640"/>
                <a:ext cx="326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cxnSp>
            <p:nvCxnSpPr>
              <p:cNvPr id="127" name="AutoShape 47"/>
              <p:cNvCxnSpPr>
                <a:stCxn id="126" idx="3"/>
                <a:endCxn id="121" idx="1"/>
              </p:cNvCxnSpPr>
              <p:nvPr/>
            </p:nvCxnSpPr>
            <p:spPr>
              <a:xfrm>
                <a:off x="813564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8" name="AutoShape 48"/>
              <p:cNvCxnSpPr>
                <a:stCxn id="121" idx="3"/>
              </p:cNvCxnSpPr>
              <p:nvPr/>
            </p:nvCxnSpPr>
            <p:spPr>
              <a:xfrm>
                <a:off x="8805600" y="5938560"/>
                <a:ext cx="284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9" name="AutoShape 49"/>
              <p:cNvCxnSpPr>
                <a:stCxn id="122" idx="3"/>
                <a:endCxn id="123" idx="1"/>
              </p:cNvCxnSpPr>
              <p:nvPr/>
            </p:nvCxnSpPr>
            <p:spPr>
              <a:xfrm flipV="1">
                <a:off x="8305560" y="6471360"/>
                <a:ext cx="229320" cy="1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30" name="Group 4"/>
          <p:cNvGrpSpPr/>
          <p:nvPr/>
        </p:nvGrpSpPr>
        <p:grpSpPr>
          <a:xfrm>
            <a:off x="3451320" y="1752480"/>
            <a:ext cx="1196640" cy="406440"/>
            <a:chOff x="3451320" y="1752480"/>
            <a:chExt cx="1196640" cy="406440"/>
          </a:xfrm>
        </p:grpSpPr>
        <p:pic>
          <p:nvPicPr>
            <p:cNvPr id="131" name="Picture 5" descr=""/>
            <p:cNvPicPr/>
            <p:nvPr/>
          </p:nvPicPr>
          <p:blipFill>
            <a:blip r:embed="rId1"/>
            <a:stretch/>
          </p:blipFill>
          <p:spPr>
            <a:xfrm>
              <a:off x="3451320" y="1752480"/>
              <a:ext cx="317160" cy="27072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32" name="Picture 6" descr=""/>
            <p:cNvPicPr/>
            <p:nvPr/>
          </p:nvPicPr>
          <p:blipFill>
            <a:blip r:embed="rId2"/>
            <a:stretch/>
          </p:blipFill>
          <p:spPr>
            <a:xfrm>
              <a:off x="3654000" y="181980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33" name="Picture 7" descr=""/>
            <p:cNvPicPr/>
            <p:nvPr/>
          </p:nvPicPr>
          <p:blipFill>
            <a:blip r:embed="rId3"/>
            <a:stretch/>
          </p:blipFill>
          <p:spPr>
            <a:xfrm>
              <a:off x="3925080" y="188784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34" name="Picture 8" descr=""/>
            <p:cNvPicPr/>
            <p:nvPr/>
          </p:nvPicPr>
          <p:blipFill>
            <a:blip r:embed="rId4"/>
            <a:stretch/>
          </p:blipFill>
          <p:spPr>
            <a:xfrm>
              <a:off x="4195800" y="1819800"/>
              <a:ext cx="317160" cy="27108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  <p:pic>
          <p:nvPicPr>
            <p:cNvPr id="135" name="Picture 9" descr=""/>
            <p:cNvPicPr/>
            <p:nvPr/>
          </p:nvPicPr>
          <p:blipFill>
            <a:blip r:embed="rId5"/>
            <a:stretch/>
          </p:blipFill>
          <p:spPr>
            <a:xfrm>
              <a:off x="4394520" y="1752480"/>
              <a:ext cx="253440" cy="262440"/>
            </a:xfrm>
            <a:prstGeom prst="rect">
              <a:avLst/>
            </a:prstGeom>
            <a:ln w="9360">
              <a:solidFill>
                <a:srgbClr val="1c1c1c"/>
              </a:solidFill>
              <a:miter/>
            </a:ln>
          </p:spPr>
        </p:pic>
      </p:grpSp>
      <p:sp>
        <p:nvSpPr>
          <p:cNvPr id="136" name="AutoShape 16"/>
          <p:cNvSpPr/>
          <p:nvPr/>
        </p:nvSpPr>
        <p:spPr>
          <a:xfrm>
            <a:off x="3962520" y="22096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770040" y="16876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Documents t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"/>
              </a:rPr>
              <a:t>be indexed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ctangle 24"/>
          <p:cNvSpPr/>
          <p:nvPr/>
        </p:nvSpPr>
        <p:spPr>
          <a:xfrm>
            <a:off x="5250960" y="1781640"/>
            <a:ext cx="3320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riends, Romans, countryme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Oval 62"/>
          <p:cNvSpPr/>
          <p:nvPr/>
        </p:nvSpPr>
        <p:spPr>
          <a:xfrm>
            <a:off x="68580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Oval 63"/>
          <p:cNvSpPr/>
          <p:nvPr/>
        </p:nvSpPr>
        <p:spPr>
          <a:xfrm>
            <a:off x="68580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Oval 64"/>
          <p:cNvSpPr/>
          <p:nvPr/>
        </p:nvSpPr>
        <p:spPr>
          <a:xfrm>
            <a:off x="685800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TextBox 56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3" name="Picture 52" descr="Screen Shot 2012-09-25 at 11.11.30 AM.png"/>
          <p:cNvPicPr/>
          <p:nvPr/>
        </p:nvPicPr>
        <p:blipFill>
          <a:blip r:embed="rId6"/>
          <a:stretch/>
        </p:blipFill>
        <p:spPr>
          <a:xfrm>
            <a:off x="0" y="39672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sing a documen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hat format is it in?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df/word/excel/html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hat language is it in?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What character set is in use?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Text Box 1028"/>
          <p:cNvSpPr/>
          <p:nvPr/>
        </p:nvSpPr>
        <p:spPr>
          <a:xfrm>
            <a:off x="609480" y="4379760"/>
            <a:ext cx="77724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Arial"/>
              </a:rPr>
              <a:t>Each of these is a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  <a:ea typeface="Arial"/>
              </a:rPr>
              <a:t>classification problem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Text Box 1030"/>
          <p:cNvSpPr/>
          <p:nvPr/>
        </p:nvSpPr>
        <p:spPr>
          <a:xfrm>
            <a:off x="786960" y="5576760"/>
            <a:ext cx="77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Arial"/>
              </a:rPr>
              <a:t>But these tasks are often done heuristically 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oken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a40508"/>
                </a:solidFill>
                <a:uFillTx/>
                <a:latin typeface="Lucida Sans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“</a:t>
            </a: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Friends, Romans and Countryme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a40508"/>
                </a:solidFill>
                <a:uFillTx/>
                <a:latin typeface="Lucida Sans"/>
              </a:rPr>
              <a:t>Output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 Token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Roma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ountryme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A </a:t>
            </a:r>
            <a:r>
              <a:rPr b="0" lang="en-US" sz="2600" spc="-1" strike="noStrike">
                <a:solidFill>
                  <a:srgbClr val="139cb7"/>
                </a:solidFill>
                <a:latin typeface="Lucida Sans"/>
              </a:rPr>
              <a:t>token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is an instance of a sequence of characte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ach such token is now a candidate for an index entry, afte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Sans"/>
              </a:rPr>
              <a:t>further processing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what are valid tokens to emit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okenization: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erms and number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ssues in tokenization: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Barack Obama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ne token or two?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San Francisc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Hewlett-Packar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one token or two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B-52, C++, C#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Numbers ? 24-5-201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192.168.0.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Lebensversicherungsgesellschaftsangestellter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= life insurance company employee in german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2" name="Picture 3" descr="Screen Shot 2012-09-25 at 11.00.33 AM.png"/>
          <p:cNvPicPr/>
          <p:nvPr/>
        </p:nvPicPr>
        <p:blipFill>
          <a:blip r:embed="rId1"/>
          <a:stretch/>
        </p:blipFill>
        <p:spPr>
          <a:xfrm>
            <a:off x="0" y="222120"/>
            <a:ext cx="9144000" cy="6635880"/>
          </a:xfrm>
          <a:prstGeom prst="rect">
            <a:avLst/>
          </a:prstGeom>
          <a:ln w="0">
            <a:noFill/>
          </a:ln>
        </p:spPr>
      </p:pic>
      <p:sp>
        <p:nvSpPr>
          <p:cNvPr id="153" name="Rettangolo arrotondato 1"/>
          <p:cNvSpPr/>
          <p:nvPr/>
        </p:nvSpPr>
        <p:spPr>
          <a:xfrm>
            <a:off x="1547640" y="4508640"/>
            <a:ext cx="6769440" cy="1224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top word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exclude from the dictionary the most  common words (called, stopwords). Intuition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y have little semantic content: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the, a, and, to, b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re are a lot of them: ~30% of postings for top 30 wor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But the trend is away from doing this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ood compression techniques (lecture!!) means the space for including stopwords in a system is very sma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Good query optimization techniques (lecture!!) mean you pay little at query time for including stop word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You need them for phrase queries or titles. E.g., “As we may think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6" name="Picture 3" descr="Screen Shot 2012-09-25 at 11.07.28 AM.pn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157" name="Rettangolo arrotondato 5"/>
          <p:cNvSpPr/>
          <p:nvPr/>
        </p:nvSpPr>
        <p:spPr>
          <a:xfrm>
            <a:off x="2050920" y="189000"/>
            <a:ext cx="649440" cy="718920"/>
          </a:xfrm>
          <a:custGeom>
            <a:avLst/>
            <a:gdLst>
              <a:gd name="textAreaLeft" fmla="*/ 31680 w 649440"/>
              <a:gd name="textAreaRight" fmla="*/ 617760 w 649440"/>
              <a:gd name="textAreaTop" fmla="*/ 31680 h 718920"/>
              <a:gd name="textAreaBottom" fmla="*/ 687240 h 718920"/>
            </a:gdLst>
            <a:ahLst/>
            <a:rect l="textAreaLeft" t="textAreaTop" r="textAreaRight" b="textAreaBottom"/>
            <a:pathLst>
              <a:path w="21600" h="23910">
                <a:moveTo>
                  <a:pt x="3600" y="0"/>
                </a:moveTo>
                <a:arcTo wR="3600" hR="3600" stAng="16200000" swAng="-5400000"/>
                <a:lnTo>
                  <a:pt x="0" y="20310"/>
                </a:lnTo>
                <a:arcTo wR="3600" hR="3600" stAng="10800000" swAng="-5400000"/>
                <a:lnTo>
                  <a:pt x="18000" y="239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Normalization to term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need to “normalize” terms in indexed text and query words into the same for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want to match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U.S.A.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We most commonly implicitly define equivalence classes of terms by, e.g.,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leting periods to form a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U.S.A.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USA 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  US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leting hyphens to form a te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anti-discriminatory, antidiscriminatory 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Lucida Sans"/>
              </a:rPr>
              <a:t>  antidiscriminato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Lucida Sans"/>
              </a:rPr>
              <a:t>C.A.T. </a:t>
            </a:r>
            <a:r>
              <a:rPr b="1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  cat ?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0" name="Picture 3" descr="Screen Shot 2012-09-25 at 10.54.11 AM.png"/>
          <p:cNvPicPr/>
          <p:nvPr/>
        </p:nvPicPr>
        <p:blipFill>
          <a:blip r:embed="rId1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ase fol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duce all letters to lower cas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ception: upper case in midsentence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General Moto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SAI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vs.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sai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ush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s.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bus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ten best to lower case everything, since users will use lowercase regardless of ‘correct’ capitalization…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3" name="Picture 4" descr="Screen Shot 2012-09-25 at 10.50.55 AM.png"/>
          <p:cNvPicPr/>
          <p:nvPr/>
        </p:nvPicPr>
        <p:blipFill>
          <a:blip r:embed="rId1"/>
          <a:stretch/>
        </p:blipFill>
        <p:spPr>
          <a:xfrm>
            <a:off x="57240" y="361800"/>
            <a:ext cx="9029520" cy="6134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Screen Shot 2012-09-25 at 10.49.29 AM.png"/>
          <p:cNvPicPr/>
          <p:nvPr/>
        </p:nvPicPr>
        <p:blipFill>
          <a:blip r:embed="rId2"/>
          <a:stretch/>
        </p:blipFill>
        <p:spPr>
          <a:xfrm>
            <a:off x="0" y="380880"/>
            <a:ext cx="900576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ttangolo arrotondato 6"/>
          <p:cNvSpPr/>
          <p:nvPr/>
        </p:nvSpPr>
        <p:spPr>
          <a:xfrm>
            <a:off x="1547640" y="4653000"/>
            <a:ext cx="6769440" cy="1224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saur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o we handle synonyms and homonyms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.g., by hand-constructed equivalence cla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 colo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 can rewrite to form equivalence-class ter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n the document contains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index it under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-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(and vice-vers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 we can expand a quer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hen the query contains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utomobi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, look under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as wel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8" name="Picture 3" descr="Screen Shot 2012-09-25 at 11.02.27 AM.png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69" name="Rettangolo arrotondato 4"/>
          <p:cNvSpPr/>
          <p:nvPr/>
        </p:nvSpPr>
        <p:spPr>
          <a:xfrm>
            <a:off x="1258920" y="5877000"/>
            <a:ext cx="6769080" cy="1008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4:30:34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5-10-13T06:34:02Z</dcterms:modified>
  <cp:revision>1203</cp:revision>
  <dc:subject/>
  <dc:title>Web Algorithmics</dc:title>
</cp:coreProperties>
</file>